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A0D7-240A-4670-A1A6-8DB573A71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5DD-8656-4572-897C-CACDE1CF7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B1D-1B82-44DA-9E1C-AEB4D8EF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7D7-45A2-4D3A-B43F-59B22425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8D3-BB7A-434E-B427-CF55B7DB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3D5-3E33-4D12-840D-A8B16AE8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A93-EA26-4F45-B44C-A8CBB7B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7C6-6912-4226-91E6-34C49F8D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61B-710D-4273-AC16-CCD5505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7A7-0ADA-40FE-A8B6-B3AEBB9A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2F8-BFCE-4FEC-94FD-8BE8F059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6CD-7EC0-4E04-9E66-F368D71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4DE-6597-469A-8F21-A63A940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EF3-00DE-4D26-9DCC-D83E690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6C15-832C-477A-891A-11EC244B9CB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храняемые растения Владимирской области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Урок биолог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Учитель: Колесова Е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МОУ «СОШ № 6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г. Кольчугино Владимир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Ятрышник шлемонос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Ятрышник шлемоносный (Orchis militaris) — многолетнее травянистое растение, «дальний родственник» экзотической орхидеи. Растение достигает в высоту 20—45 см. Ланцетные стеблеобъемлющие листья красиво оттеняют лиловые (или розовато-фиолетовые) кисти душистых цветов, достигающие порой 10 см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Картинка 2 из 110"/>
          <p:cNvPicPr/>
          <p:nvPr/>
        </p:nvPicPr>
        <p:blipFill>
          <a:blip r:embed="rId1"/>
          <a:stretch/>
        </p:blipFill>
        <p:spPr>
          <a:xfrm>
            <a:off x="500040" y="135720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нерин башмач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live.1001chudo.ru/pic/full/fbruehlmeier.info.jpg"/>
          <p:cNvPicPr/>
          <p:nvPr/>
        </p:nvPicPr>
        <p:blipFill>
          <a:blip r:embed="rId1"/>
          <a:stretch/>
        </p:blipFill>
        <p:spPr>
          <a:xfrm>
            <a:off x="4857840" y="1214280"/>
            <a:ext cx="404964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14200" y="8571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зде, где растет венерин башмачок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ipedium calceol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это цветок охраняемый и редкий. Башмачок собирается в небольшие группы, выбирает слабоосвещенные места, растет среди мхов и трав в тени деревьев или на обрывах рек и оврагов. Удивительно, но первый раз зацветает башмачок после пятнадцатого года жизни! Да и дальше может надолго уходить под землю, существуя в симбиозе со специальными грибами. Плохо конкурирующий с другими растениями башмачок обзавелся единственным средством защиты – едким и ядовитым соком. Его поэтому обходят травоядные. Для человека башмачок безопасен, даже используется как лекарственное средство, а пахнет этот необычный лесной цветок – вани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Любка зеленоцветк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071960" y="1285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Любка зеленоцветковая (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Platanthera chlorantha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) очень похожа на  любку двулистную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(Platanthera bifolia),  имеет много народных имён.. Растёт любка в смешанных и лиственных лесах, на редколесьях, среди кустарников. Любка зеленоцветковая - многолетнее травянистое растение высотой 30-60 см. Цветки почти без запаха, зеленовато-белого цвет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latanthera chlorantha 1.JPG"/>
          <p:cNvPicPr/>
          <p:nvPr/>
        </p:nvPicPr>
        <p:blipFill>
          <a:blip r:embed="rId1"/>
          <a:stretch/>
        </p:blipFill>
        <p:spPr>
          <a:xfrm>
            <a:off x="217440" y="1523880"/>
            <a:ext cx="3354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увшинка чисто-бел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457200"/>
            <a:ext cx="8786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родные названия: одолень-трава, плывучник, русалочий цветок или русалкин цвет, водяная маковка или мак водяной, водяной цвет, белая водяная лилия. Кувшинка бела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то многолетнее травянист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стение, в выс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ырастающее до полу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вух с половиной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имфея — сказ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расивый цветок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наком нам всем с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то из нас не пом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астывшие на водной г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вальные листь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поминающие по фор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ердце, выходящ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линных черешках из-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олщи воды?! Но глав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украшением нимфе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является прелестный цветок — крупный, с множеством продолговатых белых или розоватых лепестков. Свое название цветок получил благодаря форме плода, похожего на кувшинчик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увшинка белая"/>
          <p:cNvPicPr/>
          <p:nvPr/>
        </p:nvPicPr>
        <p:blipFill>
          <a:blip r:embed="rId1"/>
          <a:stretch/>
        </p:blipFill>
        <p:spPr>
          <a:xfrm>
            <a:off x="3492360" y="1413000"/>
            <a:ext cx="5651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олокольч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071720"/>
            <a:ext cx="86439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На территории Владимирской области взято под охрану 3 вида колокольч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Бубенчик                                 Колокольчик                             Колокольч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илиелистный                       жестковолосистый                    широколист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7 из 67"/>
          <p:cNvPicPr/>
          <p:nvPr/>
        </p:nvPicPr>
        <p:blipFill>
          <a:blip r:embed="rId1"/>
          <a:stretch/>
        </p:blipFill>
        <p:spPr>
          <a:xfrm>
            <a:off x="179280" y="270828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Картинка 2 из 35"/>
          <p:cNvPicPr/>
          <p:nvPr/>
        </p:nvPicPr>
        <p:blipFill>
          <a:blip r:embed="rId2"/>
          <a:stretch/>
        </p:blipFill>
        <p:spPr>
          <a:xfrm>
            <a:off x="3276720" y="2781360"/>
            <a:ext cx="2820960" cy="376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15 из 294"/>
          <p:cNvPicPr/>
          <p:nvPr/>
        </p:nvPicPr>
        <p:blipFill>
          <a:blip r:embed="rId3"/>
          <a:stretch/>
        </p:blipFill>
        <p:spPr>
          <a:xfrm>
            <a:off x="6227640" y="2781360"/>
            <a:ext cx="27068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лау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Это одни из  самых древних растений нашей области. Растут в лесах, часто на участках, покрытых зелеными мхами. Иногда они образуют изящный зеленый ков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а 1 из 102"/>
          <p:cNvPicPr/>
          <p:nvPr/>
        </p:nvPicPr>
        <p:blipFill>
          <a:blip r:embed="rId1"/>
          <a:stretch/>
        </p:blipFill>
        <p:spPr>
          <a:xfrm>
            <a:off x="5143680" y="1357200"/>
            <a:ext cx="3284280" cy="492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1 из 6"/>
          <p:cNvPicPr/>
          <p:nvPr/>
        </p:nvPicPr>
        <p:blipFill>
          <a:blip r:embed="rId2"/>
          <a:stretch/>
        </p:blipFill>
        <p:spPr>
          <a:xfrm>
            <a:off x="428760" y="2214720"/>
            <a:ext cx="4233600" cy="33382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5286240" y="6357960"/>
            <a:ext cx="30006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ранец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1071720" y="6072120"/>
            <a:ext cx="2652480" cy="223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аун топ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рострел раскрытый </a:t>
            </a: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(сон – трава) -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Pulsatil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28720" y="2214720"/>
            <a:ext cx="41864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т в разреженных сосновых лесах на песчаной сухой почве, опушках и просеках.  В начале цветения у  сон – травы нет ни листьев, ни стебля, а только фиолетовый мохнатый венчик с еле заметной цветоножкой и пучком желтых тычинок посередине. По мере роста стебель вытягивается, и появляются ли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а 6 из 218"/>
          <p:cNvPicPr/>
          <p:nvPr/>
        </p:nvPicPr>
        <p:blipFill>
          <a:blip r:embed="rId1"/>
          <a:stretch/>
        </p:blipFill>
        <p:spPr>
          <a:xfrm>
            <a:off x="428760" y="1706400"/>
            <a:ext cx="34290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еченочница благородная-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Hepática nóbilis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571760"/>
            <a:ext cx="3943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стречается в сыр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есах, особенно п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решником. Е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зводят в са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ак декоратив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ние. Ранн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есной появляю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расивые одиноч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цветки с синим, ин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озов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колоцветни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истья трехлопаст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голые, с характер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ятнистость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артинка 3 из 88"/>
          <p:cNvPicPr/>
          <p:nvPr/>
        </p:nvPicPr>
        <p:blipFill>
          <a:blip r:embed="rId1"/>
          <a:stretch/>
        </p:blipFill>
        <p:spPr>
          <a:xfrm>
            <a:off x="2857680" y="1357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Ирис сибирский (касатик, радужница)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-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Iris sibirica L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6320" y="1600200"/>
            <a:ext cx="2857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т на сырых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ереувлажненных луга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иногда встречается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пушках.  Цветет в ма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июне. Родов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название  «ирис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роизошло о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греческого сло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радуга». Оно да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нию из – за ярк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ереливающей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краски цвет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img-fotki.yandex.ru/get/26/irena-zhigora.a/0_15cad_9ba62323_XL"/>
          <p:cNvPicPr/>
          <p:nvPr/>
        </p:nvPicPr>
        <p:blipFill>
          <a:blip r:embed="rId1"/>
          <a:stretch/>
        </p:blipFill>
        <p:spPr>
          <a:xfrm>
            <a:off x="142920" y="150012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9:31:34Z</dcterms:created>
  <dc:creator>Admin</dc:creator>
  <dc:description/>
  <dc:language>en-US</dc:language>
  <cp:lastModifiedBy>Admin</cp:lastModifiedBy>
  <dcterms:modified xsi:type="dcterms:W3CDTF">2010-11-09T17:18:06Z</dcterms:modified>
  <cp:revision>18</cp:revision>
  <dc:subject/>
  <dc:title>Слайд 1</dc:title>
</cp:coreProperties>
</file>